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1402920" y="0"/>
            <a:ext cx="36608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41880" y="0"/>
            <a:ext cx="186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00320" y="698400"/>
            <a:ext cx="261288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414680"/>
            <a:ext cx="561348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95560" y="87534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Doc Type/Month 2006/Core/Rev 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77760" y="87534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78472F-2986-4A9A-8881-FA80DF722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esclogo grayscale"/>
          <p:cNvPicPr/>
          <p:nvPr/>
        </p:nvPicPr>
        <p:blipFill>
          <a:blip r:embed="rId2"/>
          <a:stretch/>
        </p:blipFill>
        <p:spPr>
          <a:xfrm>
            <a:off x="0" y="0"/>
            <a:ext cx="1324080" cy="68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3895560" y="87534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Doc Type/Month 2006/Core/Rev 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7760" y="87534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2AE6278-B9D9-4A48-9DEE-5329EA944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2200320" y="698400"/>
            <a:ext cx="2612880" cy="34848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98040" y="4414680"/>
            <a:ext cx="561348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3895560" y="87534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Doc Type/Month 2006/Core/Rev 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7760" y="87534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85C092-0660-4D8A-B646-6506A9B0C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2200320" y="698400"/>
            <a:ext cx="2612880" cy="34848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98040" y="4414680"/>
            <a:ext cx="561348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3895560" y="87534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Doc Type/Month 2006/Core/Rev 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7760" y="87534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8D8FED2-202D-4638-8A23-0A1F77FF7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2200320" y="698400"/>
            <a:ext cx="2612880" cy="34848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98040" y="4414680"/>
            <a:ext cx="561348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3895560" y="87534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Doc Type/Month 2006/Core/Rev 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7760" y="87534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F94015-9391-49FA-8FCF-E20B19932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2200320" y="698400"/>
            <a:ext cx="2612880" cy="34848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98040" y="4414680"/>
            <a:ext cx="561348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895560" y="87534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Doc Type/Month 2006/Core/Rev 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7760" y="87534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2E5AC2-4705-4707-BF0B-D97DCF6A2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2200320" y="698400"/>
            <a:ext cx="2612880" cy="34848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98040" y="4414680"/>
            <a:ext cx="561348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428B-111E-4390-A9FE-7BD0F234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ED99-2B7A-48A6-B808-3E983AA6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1A7-7004-4C3F-BAA6-D55FBA22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782F-9C02-4B99-A59F-56D38FC8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422A-CD1D-4CDD-BDD8-47D19104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D18D-88AC-4DCC-A863-DBD271E4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067E-51A3-4BEE-8A9D-35C25987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17C1-7DBD-4D6F-B85E-CA2463F8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D3DE-A1BA-4A17-B339-048E1833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568E-F7D7-44C0-B15A-0592780F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9679-E81F-4F95-923E-62495927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FA73-3C78-439F-A4EF-FFDD6D60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564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00680" y="8326440"/>
            <a:ext cx="2743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Doc Type/Month 2006/Core/Rev 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A7E8-5F66-46FC-AD06-B79C84D44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228600" y="5318280"/>
            <a:ext cx="6477120" cy="29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Expert 1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429000" y="8915400"/>
            <a:ext cx="3657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Grade Tents SIOP/June 2010/Teach Learn-CSCO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j0158007"/>
          <p:cNvPicPr/>
          <p:nvPr/>
        </p:nvPicPr>
        <p:blipFill>
          <a:blip r:embed="rId1"/>
          <a:stretch/>
        </p:blipFill>
        <p:spPr>
          <a:xfrm>
            <a:off x="0" y="8300880"/>
            <a:ext cx="6858000" cy="538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j0158007"/>
          <p:cNvPicPr/>
          <p:nvPr/>
        </p:nvPicPr>
        <p:blipFill>
          <a:blip r:embed="rId2"/>
          <a:stretch/>
        </p:blipFill>
        <p:spPr>
          <a:xfrm>
            <a:off x="0" y="4572000"/>
            <a:ext cx="6858000" cy="538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j0158007"/>
          <p:cNvPicPr/>
          <p:nvPr/>
        </p:nvPicPr>
        <p:blipFill>
          <a:blip r:embed="rId3"/>
          <a:stretch/>
        </p:blipFill>
        <p:spPr>
          <a:xfrm>
            <a:off x="0" y="3733920"/>
            <a:ext cx="6858000" cy="538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j0158007"/>
          <p:cNvPicPr/>
          <p:nvPr/>
        </p:nvPicPr>
        <p:blipFill>
          <a:blip r:embed="rId4"/>
          <a:stretch/>
        </p:blipFill>
        <p:spPr>
          <a:xfrm>
            <a:off x="0" y="228600"/>
            <a:ext cx="6858000" cy="538200"/>
          </a:xfrm>
          <a:prstGeom prst="rect">
            <a:avLst/>
          </a:prstGeom>
          <a:ln w="0">
            <a:noFill/>
          </a:ln>
        </p:spPr>
      </p:pic>
      <p:sp>
        <p:nvSpPr>
          <p:cNvPr id="55" name="WordArt 13"/>
          <p:cNvSpPr txBox="1"/>
          <p:nvPr/>
        </p:nvSpPr>
        <p:spPr>
          <a:xfrm rot="10800000">
            <a:off x="380520" y="837720"/>
            <a:ext cx="6172200" cy="291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Expert 1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6" name="Text Box 6"/>
          <p:cNvSpPr/>
          <p:nvPr/>
        </p:nvSpPr>
        <p:spPr>
          <a:xfrm rot="10800000">
            <a:off x="0" y="-2880"/>
            <a:ext cx="3657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Grade Tents SIOP/June 2010/Teach Learn-CSCO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228600" y="5318280"/>
            <a:ext cx="6477120" cy="29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Expert 2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429000" y="8915400"/>
            <a:ext cx="3657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Grade Tents SIOP/June 2010/Teach Learn-CSCO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j0158007"/>
          <p:cNvPicPr/>
          <p:nvPr/>
        </p:nvPicPr>
        <p:blipFill>
          <a:blip r:embed="rId1"/>
          <a:stretch/>
        </p:blipFill>
        <p:spPr>
          <a:xfrm>
            <a:off x="0" y="8300880"/>
            <a:ext cx="6858000" cy="538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j0158007"/>
          <p:cNvPicPr/>
          <p:nvPr/>
        </p:nvPicPr>
        <p:blipFill>
          <a:blip r:embed="rId2"/>
          <a:stretch/>
        </p:blipFill>
        <p:spPr>
          <a:xfrm>
            <a:off x="0" y="4572000"/>
            <a:ext cx="6858000" cy="538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j0158007"/>
          <p:cNvPicPr/>
          <p:nvPr/>
        </p:nvPicPr>
        <p:blipFill>
          <a:blip r:embed="rId3"/>
          <a:stretch/>
        </p:blipFill>
        <p:spPr>
          <a:xfrm>
            <a:off x="0" y="3733920"/>
            <a:ext cx="6858000" cy="538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j0158007"/>
          <p:cNvPicPr/>
          <p:nvPr/>
        </p:nvPicPr>
        <p:blipFill>
          <a:blip r:embed="rId4"/>
          <a:stretch/>
        </p:blipFill>
        <p:spPr>
          <a:xfrm>
            <a:off x="0" y="228600"/>
            <a:ext cx="6858000" cy="5382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3"/>
          <p:cNvSpPr txBox="1"/>
          <p:nvPr/>
        </p:nvSpPr>
        <p:spPr>
          <a:xfrm rot="10800000">
            <a:off x="380520" y="837720"/>
            <a:ext cx="6172200" cy="291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Expert 2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" name="Text Box 6"/>
          <p:cNvSpPr/>
          <p:nvPr/>
        </p:nvSpPr>
        <p:spPr>
          <a:xfrm rot="10800000">
            <a:off x="0" y="-2880"/>
            <a:ext cx="3657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Grade Tents SIOP/June 2010/Teach Learn-CSCO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4"/>
          <p:cNvSpPr txBox="1"/>
          <p:nvPr/>
        </p:nvSpPr>
        <p:spPr>
          <a:xfrm>
            <a:off x="228600" y="5318280"/>
            <a:ext cx="6477120" cy="29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Expert 3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429000" y="8915400"/>
            <a:ext cx="3657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Grade Tents SIOP/June 2010/Teach Learn-CSCO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j0158007"/>
          <p:cNvPicPr/>
          <p:nvPr/>
        </p:nvPicPr>
        <p:blipFill>
          <a:blip r:embed="rId1"/>
          <a:stretch/>
        </p:blipFill>
        <p:spPr>
          <a:xfrm>
            <a:off x="0" y="8300880"/>
            <a:ext cx="6858000" cy="538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j0158007"/>
          <p:cNvPicPr/>
          <p:nvPr/>
        </p:nvPicPr>
        <p:blipFill>
          <a:blip r:embed="rId2"/>
          <a:stretch/>
        </p:blipFill>
        <p:spPr>
          <a:xfrm>
            <a:off x="0" y="4572000"/>
            <a:ext cx="6858000" cy="538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j0158007"/>
          <p:cNvPicPr/>
          <p:nvPr/>
        </p:nvPicPr>
        <p:blipFill>
          <a:blip r:embed="rId3"/>
          <a:stretch/>
        </p:blipFill>
        <p:spPr>
          <a:xfrm>
            <a:off x="0" y="3733920"/>
            <a:ext cx="6858000" cy="538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j0158007"/>
          <p:cNvPicPr/>
          <p:nvPr/>
        </p:nvPicPr>
        <p:blipFill>
          <a:blip r:embed="rId4"/>
          <a:stretch/>
        </p:blipFill>
        <p:spPr>
          <a:xfrm>
            <a:off x="0" y="228600"/>
            <a:ext cx="6858000" cy="538200"/>
          </a:xfrm>
          <a:prstGeom prst="rect">
            <a:avLst/>
          </a:prstGeom>
          <a:ln w="0">
            <a:noFill/>
          </a:ln>
        </p:spPr>
      </p:pic>
      <p:sp>
        <p:nvSpPr>
          <p:cNvPr id="71" name="WordArt 13"/>
          <p:cNvSpPr txBox="1"/>
          <p:nvPr/>
        </p:nvSpPr>
        <p:spPr>
          <a:xfrm rot="10800000">
            <a:off x="380520" y="837720"/>
            <a:ext cx="6172200" cy="291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Expert 3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2" name="Text Box 6"/>
          <p:cNvSpPr/>
          <p:nvPr/>
        </p:nvSpPr>
        <p:spPr>
          <a:xfrm rot="10800000">
            <a:off x="0" y="-2880"/>
            <a:ext cx="3657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Grade Tents SIOP/June 2010/Teach Learn-CSCO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228600" y="5318280"/>
            <a:ext cx="6477120" cy="29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Expert 4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429000" y="8915400"/>
            <a:ext cx="3657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Grade Tents SIOP/June 2010/Teach Learn-CSCO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j0158007"/>
          <p:cNvPicPr/>
          <p:nvPr/>
        </p:nvPicPr>
        <p:blipFill>
          <a:blip r:embed="rId1"/>
          <a:stretch/>
        </p:blipFill>
        <p:spPr>
          <a:xfrm>
            <a:off x="0" y="8300880"/>
            <a:ext cx="6858000" cy="538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j0158007"/>
          <p:cNvPicPr/>
          <p:nvPr/>
        </p:nvPicPr>
        <p:blipFill>
          <a:blip r:embed="rId2"/>
          <a:stretch/>
        </p:blipFill>
        <p:spPr>
          <a:xfrm>
            <a:off x="0" y="4572000"/>
            <a:ext cx="6858000" cy="538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j0158007"/>
          <p:cNvPicPr/>
          <p:nvPr/>
        </p:nvPicPr>
        <p:blipFill>
          <a:blip r:embed="rId3"/>
          <a:stretch/>
        </p:blipFill>
        <p:spPr>
          <a:xfrm>
            <a:off x="0" y="3733920"/>
            <a:ext cx="6858000" cy="538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j0158007"/>
          <p:cNvPicPr/>
          <p:nvPr/>
        </p:nvPicPr>
        <p:blipFill>
          <a:blip r:embed="rId4"/>
          <a:stretch/>
        </p:blipFill>
        <p:spPr>
          <a:xfrm>
            <a:off x="0" y="228600"/>
            <a:ext cx="6858000" cy="538200"/>
          </a:xfrm>
          <a:prstGeom prst="rect">
            <a:avLst/>
          </a:prstGeom>
          <a:ln w="0">
            <a:noFill/>
          </a:ln>
        </p:spPr>
      </p:pic>
      <p:sp>
        <p:nvSpPr>
          <p:cNvPr id="79" name="WordArt 13"/>
          <p:cNvSpPr txBox="1"/>
          <p:nvPr/>
        </p:nvSpPr>
        <p:spPr>
          <a:xfrm rot="10800000">
            <a:off x="380520" y="837720"/>
            <a:ext cx="6172200" cy="291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Expert 4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0" name="Text Box 6"/>
          <p:cNvSpPr/>
          <p:nvPr/>
        </p:nvSpPr>
        <p:spPr>
          <a:xfrm rot="10800000">
            <a:off x="0" y="-2880"/>
            <a:ext cx="3657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Grade Tents SIOP/June 2010/Teach Learn-CSCO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228600" y="5318280"/>
            <a:ext cx="6477120" cy="29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Expert 5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429000" y="8915400"/>
            <a:ext cx="3657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Grade Tents SIOP/June 2010/Teach Learn-CSCO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j0158007"/>
          <p:cNvPicPr/>
          <p:nvPr/>
        </p:nvPicPr>
        <p:blipFill>
          <a:blip r:embed="rId1"/>
          <a:stretch/>
        </p:blipFill>
        <p:spPr>
          <a:xfrm>
            <a:off x="0" y="8300880"/>
            <a:ext cx="6858000" cy="538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j0158007"/>
          <p:cNvPicPr/>
          <p:nvPr/>
        </p:nvPicPr>
        <p:blipFill>
          <a:blip r:embed="rId2"/>
          <a:stretch/>
        </p:blipFill>
        <p:spPr>
          <a:xfrm>
            <a:off x="0" y="4572000"/>
            <a:ext cx="6858000" cy="538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j0158007"/>
          <p:cNvPicPr/>
          <p:nvPr/>
        </p:nvPicPr>
        <p:blipFill>
          <a:blip r:embed="rId3"/>
          <a:stretch/>
        </p:blipFill>
        <p:spPr>
          <a:xfrm>
            <a:off x="0" y="3733920"/>
            <a:ext cx="6858000" cy="538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j0158007"/>
          <p:cNvPicPr/>
          <p:nvPr/>
        </p:nvPicPr>
        <p:blipFill>
          <a:blip r:embed="rId4"/>
          <a:stretch/>
        </p:blipFill>
        <p:spPr>
          <a:xfrm>
            <a:off x="0" y="228600"/>
            <a:ext cx="6858000" cy="538200"/>
          </a:xfrm>
          <a:prstGeom prst="rect">
            <a:avLst/>
          </a:prstGeom>
          <a:ln w="0">
            <a:noFill/>
          </a:ln>
        </p:spPr>
      </p:pic>
      <p:sp>
        <p:nvSpPr>
          <p:cNvPr id="87" name="WordArt 13"/>
          <p:cNvSpPr txBox="1"/>
          <p:nvPr/>
        </p:nvSpPr>
        <p:spPr>
          <a:xfrm rot="10800000">
            <a:off x="380520" y="837720"/>
            <a:ext cx="6172200" cy="291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Expert 5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8" name="Text Box 6"/>
          <p:cNvSpPr/>
          <p:nvPr/>
        </p:nvSpPr>
        <p:spPr>
          <a:xfrm rot="10800000">
            <a:off x="0" y="-2880"/>
            <a:ext cx="3657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Grade Tents SIOP/June 2010/Teach Learn-CSCO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9:59:20Z</dcterms:created>
  <dc:creator>Jenny Dixon</dc:creator>
  <dc:description/>
  <dc:language>en-US</dc:language>
  <cp:lastModifiedBy>Kristin Arterbury</cp:lastModifiedBy>
  <cp:lastPrinted>2013-02-26T12:13:46Z</cp:lastPrinted>
  <dcterms:modified xsi:type="dcterms:W3CDTF">2013-08-14T21:17:06Z</dcterms:modified>
  <cp:revision>9</cp:revision>
  <dc:subject/>
  <dc:title>Slide 1</dc:title>
</cp:coreProperties>
</file>